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F48-47D8-45CD-B1AB-50023186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884-6D90-458A-BD26-C7ED249D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866-4D85-4AEB-9A88-D8BAE206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DA3-6A89-401C-A507-B3847E2C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597C-EF47-429D-A397-39D7E101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A4B2-29A9-43D7-B77D-782DA628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7C7B-57FB-44B4-8002-ABD5226C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2EAA-3110-49B7-B680-E0D82CD2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8823-50F4-49A1-BC3C-33E8DF70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F142-8E36-4EA4-AEF2-2A389879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E454-09C1-4FD1-A285-8D1101AB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4F9-77A3-4828-A21D-35D21645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3ED1-0C7C-4D58-82DA-6E07DB15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EE4D-9947-4513-8980-3E991B05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85E4-6981-4A9E-925B-8439085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9096-0886-43E9-8432-59D38206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E969-5CE3-4591-8501-13F6E8ED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4F3-E9A0-45C5-940F-431E671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9C9-30F0-4BDE-90EA-DC431399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688-E392-49F2-ACAF-9900190B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74F-B954-4B2B-8F16-483D0D1E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7B0-D974-492C-85DA-C77AD561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9DC-E861-4F06-A9D5-38CE95C0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DB0-6E71-4170-98AA-7430019C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EE8-594F-4C1F-B752-1AB560A0E5F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6923-272B-4621-9AAF-37BF0DE67E2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610480" y="8229600"/>
            <a:ext cx="10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772040" y="7924320"/>
            <a:ext cx="1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Por: Filip Cooper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45720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7621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3520" y="10666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7d47d"/>
                </a:solidFill>
                <a:latin typeface="Arial"/>
              </a:rPr>
              <a:t>Viaje a Per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5105520"/>
            <a:ext cx="36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Por: Filip Cooper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971440" y="2743200"/>
            <a:ext cx="441468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3808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808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15994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legué a Lima, Perú ho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99600" y="9144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f1311"/>
                </a:solidFill>
                <a:latin typeface="Arial"/>
              </a:rPr>
              <a:t>el primer día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182808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justo cuando llegué me fui al hote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2056680"/>
            <a:ext cx="54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Me estoy alojando en el Hotel Miraflores Park - Lim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82840" y="2285280"/>
            <a:ext cx="56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después de que viajó por todo el día que fui a la cam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79600" y="1370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Hola Etha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125160" y="30420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16059"/>
                </a:solidFill>
                <a:latin typeface="Arial"/>
              </a:rPr>
              <a:t>de dos día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990000"/>
            <a:ext cx="49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16059"/>
                </a:solidFill>
                <a:latin typeface="Arial"/>
              </a:rPr>
              <a:t>hola luma Hoy he ido a la playa y practicar sur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16059"/>
                </a:solidFill>
                <a:latin typeface="Arial"/>
              </a:rPr>
              <a:t>después de la práctica del surf nos fuimos al hotel para descansar un poco para estar listo para clubing toda la noc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64008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819880" y="228240"/>
            <a:ext cx="33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2f1311"/>
                </a:solidFill>
                <a:latin typeface="Arial"/>
              </a:rPr>
              <a:t>Día dos noche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8040"/>
            <a:ext cx="56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16059"/>
                </a:solidFill>
                <a:latin typeface="Arial"/>
              </a:rPr>
              <a:t>cuando entramos en el club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144720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16059"/>
                </a:solidFill>
                <a:latin typeface="Arial"/>
              </a:rPr>
              <a:t>cuando fuimos al club hemos recogido algunas chic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55120" y="175176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16059"/>
                </a:solidFill>
                <a:latin typeface="Arial"/>
              </a:rPr>
              <a:t>después de recoger a las niñas que la pista de bail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56200" y="2056680"/>
            <a:ext cx="68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16059"/>
                </a:solidFill>
                <a:latin typeface="Arial"/>
              </a:rPr>
              <a:t>después de haber estado bailando el club parecía muy de guerra</a:t>
            </a: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8:27Z</dcterms:created>
  <dc:creator>cooperfil</dc:creator>
  <dc:description/>
  <dc:language>en-US</dc:language>
  <cp:lastModifiedBy>cooperfil</cp:lastModifiedBy>
  <dcterms:modified xsi:type="dcterms:W3CDTF">2011-12-01T18:44:03Z</dcterms:modified>
  <cp:revision>7</cp:revision>
  <dc:subject/>
  <dc:title>Viaje a la República Dominicana</dc:title>
</cp:coreProperties>
</file>